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76F1-BC54-47CC-A9E8-C63133B848BB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A7C4-C487-448B-9325-E2B12D8CABD7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43C5-6D72-4190-A6C6-6C79BDA59A7B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6CB6-8500-4D11-BC19-62475514EE62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4D25-17E2-4107-92DA-08F798C317F3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244E-5FF5-4630-B928-76E32F08539B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4B57-70BD-4BF8-9EF3-BFC8B06899BE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F8DD-1BB8-4504-874E-1E5CAAEC0C57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4C1A-769D-4864-8658-908CE0C61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A10C-A307-4C45-8EF8-239B8413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6ED0-542B-4BE6-B609-88BE1FEE3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6343-1EE9-43EB-ABED-416A7718E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917F-FA8E-4A96-99C9-956930254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93BB-089C-43B7-8C16-0E8E4990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9E56-DEB8-4672-A9A4-5819C500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CBF6-FCB7-48D4-8ECF-1C6B2DB1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0CC3-4229-4D40-B6D9-2A331327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3D08-25E6-438F-B0B7-7C87E26B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F909-7F20-45AF-BF7F-4F277050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6BC1-B18D-470C-9398-7E8431B8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4C09-BDB1-49A9-9B26-0115CA6E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8C21-C83E-4882-B916-501EB199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2791-D810-4978-B909-1F65D15E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5994-67A1-4D19-BA73-5A6A843FB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A9B5-826C-408D-A179-C253EF058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29CA9E-4537-4A9E-B7B5-B9B55953D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AFE143-2260-495D-ADDD-192EE19A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1F0FB7-D655-46C2-A359-F5D0E6F3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597FAD-E628-4641-B556-372D7728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BF9F1D-4050-4816-8D33-1621654C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9170-F469-47FE-AB12-9D477C04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C7B424-D2EB-413F-8A36-7D09A892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EC22DD-61EC-458A-AE9D-BEC0D5CC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856D52-AE03-4436-B935-A2F83B47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670F6F-4533-42F2-A5C1-ABE184E4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E0F049-108E-47F2-A0AB-82C885E8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2C0558-A783-40FB-918B-B78BF3FBD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A14DCC-0ECC-4D7A-B781-921787A71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1A127-240A-48E7-B0AA-D318E5C2D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57719-5E6D-400F-BE6B-46DE8DAE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891EB-A116-4B63-BF63-C8482BC1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1EDB-C771-4178-9DDA-9C89AF9A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FE802-6BD4-468C-9A06-1AE64DF4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34153-5E09-405E-8CD0-589167D7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FEE01-8B1E-4289-9DF4-B2966FB1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F0E61-7F3E-4438-B944-E4BC861E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C7278-7A9D-4FDB-8DA8-800415D6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09EDA-34DB-489C-AEA5-BBBE2F6A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28F85-E412-4FEC-A06E-20EA5133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94BDA-C612-4915-962F-5FBEB7C56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6DB14-4D4C-40C4-8F98-3F3328423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9BC07B-6508-4ABC-AFFC-8916E8AC3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27D0-4647-4F06-9EDD-0041CBAC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365662-9D60-47DE-9D65-EF151580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DA4D97-99F3-47E2-ABC9-32E1AF18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A5F514-3240-4389-9DA7-1C440FB1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CADBB1-ABB2-448A-ADC0-8F12A13E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9EFF52-A8A2-4CA7-A159-7362640A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019ACB-9D2A-4F5D-A1A0-9B4CB8FB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50BD76-ABA1-4FCD-9457-B164F43C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A7356E-D824-425D-ABDA-E1DB4996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77E3C8-649B-4B14-9306-264E2E7C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CE2A2E-262E-432A-AA36-A996F1C36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C75E-6DAA-4C00-871B-E06B3542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055C27-E088-437E-8015-E4F9CFF6B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1DFB1D-62CA-45ED-A89A-1F21C0A2A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072D0B-F878-4038-9012-5009C0C8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165AE2-D47E-4729-834E-101D2427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E0E51A-D2A3-4E7C-B510-2BD3F51F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F5F1C0-17FE-4D6C-99EE-90409A44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9DF8BA-1D52-4499-8E22-932C7504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721BEB-5207-4584-B9FD-C180FD85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F2EE0E-9290-4076-8448-DEDA6930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873CFB-E1E8-4BC5-8214-3A55199E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D57D-05E9-4627-AB3D-6F7422FF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FC8221-C245-46CF-B17E-0B9AAFDC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E1CC9B-483C-4121-A3F8-32FA6A9AB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5FEF43-9CA8-43C8-A011-C0BC43564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594F53-1844-4B28-B01F-93A6AB496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7BAA95-0F86-48A6-B80F-E101F1D3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B1A67D-D5B5-4FC4-9F26-3032318A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B73EE1-8924-4CAC-8D6B-44F7595E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7C0FA8-6FEB-4C17-8DB9-BFDC8737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CB9676-9E16-47B0-9491-C21940C8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E45307-63A3-422C-8C18-FBA61CB3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B7A8-04C5-42C7-9232-6CEAA5BD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4C339C-2B21-4090-85A2-74B02D54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2D2F78-655F-4289-9226-5E899D79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2FED8A-7898-4121-9221-C0F7625B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B5FB04-295F-4E6E-AF3E-EE6F5FDD2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01CC76-2246-4A4E-B213-4DDEB3FC1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8377-6025-433E-990E-ACF505DE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CE37-5BD0-4144-A5FB-B4565BFAA4D2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C891-66BE-4A89-A7F8-DF8DBA07B6E6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C048-D6DF-47CC-912C-31E119F39DD5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EF93-664E-4122-838E-24B875C19838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81C8-5BF8-402A-A676-2475E8E2CF1C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93FC-CEE4-4E0F-AC41-AC055D90A35A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02C8-FA74-4991-B75C-CCD05B5A4B31}" type="slidenum">
              <a:rPr b="1" lang="sr-Latn-C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inance.yahoo.com/q" TargetMode="External"/><Relationship Id="rId2" Type="http://schemas.openxmlformats.org/officeDocument/2006/relationships/hyperlink" Target="http://www.finance.yahoo.com/q" TargetMode="External"/><Relationship Id="rId3" Type="http://schemas.openxmlformats.org/officeDocument/2006/relationships/hyperlink" Target="http://www.stockcharts.com/" TargetMode="External"/><Relationship Id="rId4" Type="http://schemas.openxmlformats.org/officeDocument/2006/relationships/hyperlink" Target="http://www.nasdaq.com/" TargetMode="Externa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2920" y="285480"/>
            <a:ext cx="857232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3000" spc="-1" strike="noStrike">
                <a:solidFill>
                  <a:srgbClr val="575f6d"/>
                </a:solidFill>
                <a:latin typeface="Century Schoolbook"/>
              </a:rPr>
              <a:t> – FINANSIJSKA TRŽIŠ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82580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rimarno </a:t>
            </a: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tržište (nisu dovoljno poznata široj javnosti; pokrovitelj prve emisije investiciona banka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Sekundarno tržište – 2 važne funkcije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1. čini finansijske instrumente likvidnim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2. formiranje cijene na tržištu (kupovina na primarnom tržištu zavisi od cijene na sekundarnom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Sekundarna tržišta su organizovana na 2 načina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1. Berze (Njujorška, Čikaška robna berza – pšenica, kukuruz, srebro..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2. Vanberzansko tržište – aktivno poslovanje dilera sa različitih lokacija; trgovina “preko šaltera”; trgovina putem kompjutera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Tržište obveznica američke vlade koje ima veći obim trgovine od Njujorške berza, organizovano je kao vanberzansko tržište. (na OTC se trguje i prenosivim depozitnim certifikatima, bankarskim akceptima, devizama, derivatima i sl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entury Schoolbook"/>
              </a:rPr>
              <a:t>Nasdaq – National Association of Securities Dealers Automated Quotation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5723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3000" spc="-1" strike="noStrike">
                <a:solidFill>
                  <a:srgbClr val="575f6d"/>
                </a:solidFill>
                <a:latin typeface="Century Schoolbook"/>
              </a:rPr>
              <a:t> – FINANSIJSKA TRŽIŠ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Picture 2" descr="C:\Users\Ana\Pictures\200px-NASDAQ.jpg"/>
          <p:cNvPicPr/>
          <p:nvPr/>
        </p:nvPicPr>
        <p:blipFill>
          <a:blip r:embed="rId1"/>
          <a:stretch/>
        </p:blipFill>
        <p:spPr>
          <a:xfrm>
            <a:off x="214200" y="1143000"/>
            <a:ext cx="3691080" cy="5357880"/>
          </a:xfrm>
          <a:prstGeom prst="rect">
            <a:avLst/>
          </a:prstGeom>
          <a:ln w="0">
            <a:noFill/>
          </a:ln>
        </p:spPr>
      </p:pic>
      <p:sp>
        <p:nvSpPr>
          <p:cNvPr id="363" name="TextBox 5"/>
          <p:cNvSpPr/>
          <p:nvPr/>
        </p:nvSpPr>
        <p:spPr>
          <a:xfrm>
            <a:off x="3929040" y="1143000"/>
            <a:ext cx="4786200" cy="5447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Elektronsko tržite akc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Osnovan 1971 od strane NA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Posjeduje Nordic SE i 1/3 Dubai SE, od 2007 i Philadelphia 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Druga po veličini u Amer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1987 usled krize uvodi se SOES – Small Order Execution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1998 Nasdaq-Amex Market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3 nivoa kotiranj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- nivo 1 pokazuje spread između  najviše kupovne i najniže prodajne cijene (inside quo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- nivo 2 pokazuje sve javne kotacije, informacije o kupovnoj i prodajnoj cijeni market maker-a, izvršene nalo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- nivo 3 koriste market maker-i da bi unosili cijene i izršavali nalo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Nasdaq composite (od 2009 preko 3000 komapnija); Nasdaq 100 (nefinansijske institucije; svjetske kompanije; razlika u odnosu na S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&amp;P500 i DJIA</a:t>
            </a:r>
            <a:r>
              <a:rPr b="0" lang="sr-Latn-C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456840" y="1214280"/>
            <a:ext cx="825804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r</a:t>
            </a: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žište novca  (veći obim trgovine, likvidnost, sigurnija investicija, manja fluktuacija cijena kratkoročnih HOV u odnosu na dugoročne HOV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Tržište kapitala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Internacionalizacija finansijskih tržišta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Tradicionalni instrumenti na međunarodnom tržištu obveznica su strane obveznice – prodaju se u stranoj državi i denominovane su u valuti te držav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Veliki dio željezničkih pruga u SAD izgrađenih u XIX vijeku finansiran je prodajom stranih obveznica u Engleskoj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Euro-obveznica – denominovana u valuti koja nije valuta države u kojoj je prodata. Tržište EO raste velikom brzinom. (obveznica denominovana u dolarima, a prodata u Londonu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Euro – valute (americki dolari deponovani u stranim bankama van SAD ili u svojim bankama u inostranstvu. Američke banke pozajmljuju euro-dolarske depozite i oni čine značajan izvor finansiranja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6439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3000" spc="-1" strike="noStrike">
                <a:solidFill>
                  <a:srgbClr val="575f6d"/>
                </a:solidFill>
                <a:latin typeface="Century Schoolbook"/>
              </a:rPr>
              <a:t> – FINANSIJSKA TRŽIŠ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457200" y="1143000"/>
            <a:ext cx="80438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www.</a:t>
            </a:r>
            <a:r>
              <a:rPr b="0" lang="sr-Latn-CS" sz="22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finance.yahoo.com/q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www.stockcharts.co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 u="sng">
                <a:solidFill>
                  <a:srgbClr val="d2611c"/>
                </a:solidFill>
                <a:uFillTx/>
                <a:latin typeface="Century Schoolbook"/>
                <a:hlinkClick r:id="rId4"/>
              </a:rPr>
              <a:t>www.nasdaq.co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Transakcioni troškovi posredovanja (posrednici mogu smanjiti te troškove i obezbijediti likvidne usluge – olakšati transakcije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Finansijski posrednici smanjuju rizik investitora (diversifikacija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Asimetričnost informacijam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Negativna selekcija – može nastati prije transakcije (zbog visokorizičnih klijenata svi se isključuju sa tržišt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Moralni hazard – može nastati nakon transakcij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Finansijski posrednici umanjuju rizik i mogu otkloniti negativnu selekciju ili moralni hazard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864396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3000" spc="-1" strike="noStrike">
                <a:solidFill>
                  <a:srgbClr val="575f6d"/>
                </a:solidFill>
                <a:latin typeface="Century Schoolbook"/>
              </a:rPr>
              <a:t> – FINANSIJSKA TRŽIŠ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500040" y="1285920"/>
            <a:ext cx="82152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Regulativa mora smanjiti probleme negativne selekcije i moralnog hazarda zbog optimalnog funkcionisanja na tržišt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Nakon sloma i širenja kriminala 1929 godine, 1933 se donosi Zakon o HOV i osniva Komisija za HOV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Zahtijeva se transparentnost, zabranjuje se trgovina na bazi insajd informacija – cilj zaštita investitor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Asimetrične informacije mogu izazvati “finansijsku paniku” – povlačenje sredstava kako iz sigurnih, tako i iz nesigurnih institucija (posrednici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Komisija za HOV nadgleda rad finansijskih institucij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3000" spc="-1" strike="noStrike">
                <a:solidFill>
                  <a:srgbClr val="575f6d"/>
                </a:solidFill>
                <a:latin typeface="Century Schoolbook"/>
              </a:rPr>
              <a:t> – FINANSIJSKA TRŽIŠ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500040" y="1214280"/>
            <a:ext cx="82152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Zašto obična akcija IBM predstavlja aktivu za vlasnika, a pasivu kompaniji IBM?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Možete kupiti automobil danas za 5000$ i on će vam donijeti dodatnih 10000$ prihoda, jer ćete pomoću njega raditi kao trgovački putnik. Da li treba da uzmete kredit zbog kupovine automobila od Mark-a (Loan Shark), uz 90% k.s., ukoliko vam niko drugi ne odobrava kredit? Da li je moguće legalizovati davanje kredita uz visoke kamatne stope? Kako takva pojava utiče na finansijska tržišta?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Šta biste radije držali – obveznice ili akcije kompanije za koju se sumnja da će bankrotirati za godinu dana?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Navedite slučaj negative selekcije u kojem ste se Vi bili učesnik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Kako podjela rizika doprinosi i finansijskim posrednicima i privatnim investitorima?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entury Schoolbook"/>
              </a:rPr>
              <a:t>Da li je moguće potpuno ukloniti asimetriju u informisanju?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BERZANSKO POSLOVANJE</a:t>
            </a:r>
            <a:r>
              <a:rPr b="0" lang="sr-Latn-CS" sz="3000" spc="-1" strike="noStrike">
                <a:solidFill>
                  <a:srgbClr val="575f6d"/>
                </a:solidFill>
                <a:latin typeface="Century Schoolbook"/>
              </a:rPr>
              <a:t> – FINANSIJSKA TRŽIŠ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14:18:04Z</dcterms:created>
  <dc:creator>Ana</dc:creator>
  <dc:description/>
  <dc:language>en-US</dc:language>
  <cp:lastModifiedBy>User</cp:lastModifiedBy>
  <dcterms:modified xsi:type="dcterms:W3CDTF">2017-02-19T13:33:04Z</dcterms:modified>
  <cp:revision>12</cp:revision>
  <dc:subject/>
  <dc:title>Slide 1</dc:title>
</cp:coreProperties>
</file>